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789E-319F-40A7-B0A4-9EDCA25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6720-D549-43F6-9D0A-71BAEB7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5316-D7B9-45E9-8377-ABF0CC1F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655C-6633-49F8-A085-5713D8BB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885-1264-46DB-BF2A-2DA5EA7A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4C2-DBAC-4D70-AE22-FE7945E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E7E-CCF9-4508-9153-59B4811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63E3-7A88-4E98-BD6A-7C974B0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E3F-1B38-4A2D-93FA-805B24D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5B1A-D283-4343-912B-E30AF6D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A06-0280-4EFB-A998-DEAE843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CCED-1E37-445F-BEEA-F670EE5A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7083-5BA2-493F-A042-56CD563C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C77B-043A-4E6A-801F-E171A714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EE0-E073-4793-A3A6-512F4BF1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586B-DF5C-46B3-96F7-3D82930F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E60-5050-47A8-9DE4-8DB3CF6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86A9-12F2-4A5D-88F2-627BB04A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45C7-4383-4D78-9E6F-578B7A5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0A05-9110-4E9E-96E2-E047BCB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73EC-C6FD-4971-B148-6BF6C95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96BE-20FD-43F9-9D81-371DA1BD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CAB0-F38D-4B22-8E9E-5882FE2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87C7-EA13-4514-98D9-D736114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D10-10C3-4B3E-90D8-6683EF0CE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720-198F-4607-B467-003219B1C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periodistadigital.com/imgs/20071009/transfusion_1.jpg&amp;imgrefurl=http://blogs.periodistadigital.com/vidasaludable.php/2007/10/09/el_peligro_de_las_transfusiones&amp;h=187&amp;w=200&amp;sz=14&amp;hl=es&amp;start=6&amp;um=1&amp;tbnid=g1Lv26yZznQPZM:&amp;tbnh=97&amp;tbnw=104&amp;prev=/images%3Fq%3Dtransfusiones%26um%3D1%26hl%3Des%26cr%3Dcountry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educared.org.ar/ppce/laboratorio/images/laboratorio_tubo.jpg&amp;imgrefurl=http://www.educared.org.ar/ppce/laboratorio/1/analisis/02.asp&amp;h=291&amp;w=218&amp;sz=9&amp;hl=es&amp;start=2&amp;tbnid=M9I8I9tlcEql3M:&amp;tbnh=115&amp;tbnw=86&amp;prev=/images%3Fq%3Dtubos%2Blaboratorio%26gbv%3D2%26ndsp%3D20%26hl%3Des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RIESGO – BENEFICIO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DE LA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TRANSFUSIÓN SANGUÍNEA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Maiandra GD"/>
              </a:rPr>
              <a:t>Patricia Fernández Santos</a:t>
            </a:r>
            <a:br>
              <a:rPr sz="2000"/>
            </a:br>
            <a:r>
              <a:rPr b="0" lang="en-US" sz="2000" spc="-1" strike="noStrike">
                <a:solidFill>
                  <a:srgbClr val="e5e5ff"/>
                </a:solidFill>
                <a:latin typeface="Maiandra GD"/>
              </a:rPr>
              <a:t>17º Congreso Nacional de Hematología</a:t>
            </a:r>
            <a:br>
              <a:rPr sz="2000"/>
            </a:br>
            <a:r>
              <a:rPr b="0" lang="en-US" sz="2000" spc="-1" strike="noStrike">
                <a:solidFill>
                  <a:srgbClr val="e5e5ff"/>
                </a:solidFill>
                <a:latin typeface="Maiandra GD"/>
              </a:rPr>
              <a:t>Palencia, 18,19 y 20 Octubre 2012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2749" t="0" r="12749" b="0"/>
          <a:stretch/>
        </p:blipFill>
        <p:spPr>
          <a:xfrm>
            <a:off x="611280" y="4221000"/>
            <a:ext cx="2009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nce en los protocolos de ahorro de sangre/ Aumento de necesida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xión sobre transmisión de enfermedades desconoci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spectos éticos y mora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timiento informado. Los pacientes son informados de los riesgos/beneficio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Arial Rounded MT Bold"/>
              </a:rPr>
              <a:t>Conclu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ay transfusión 100% segu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ransfusión más segura es aquella que no se ha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os últimos 7 años, fuerte legislació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haustivo análisis en la donación. Riesg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erte Vigilancia en la Transfusión. Benefici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os últimos 5 años, protocolos de ahorro de hemoderivados: Bien escaso. Segur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Rounded MT Bold"/>
              </a:rPr>
              <a:t>MUCHAS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Rounded MT Bold"/>
              </a:rPr>
              <a:t>GRACIA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nsfusión: Transplante de un tejido vivo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actualida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aumentado las necesidades de transfu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número de procedimiento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rúrgic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ermedades médicas crónic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ncología, hematología, medicina interna…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2160720" cy="2016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Arial Rounded MT Bold"/>
              </a:rPr>
              <a:t>Introduc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 aument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controles de la don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or numero de criterios de exclusión, análisis más exhaustivo, inmunología, serología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VIGILANC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de efectos advers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es de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os alternativ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ansfu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apia de Hier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3141720"/>
            <a:ext cx="19605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Arial Rounded MT Bold"/>
              </a:rPr>
              <a:t>OBJETIV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770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a revisión en el momento actual sobre los riesgos y beneficios que proporciona la transfusión sanguínea con ca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Arial Rounded MT Bold"/>
              </a:rPr>
              <a:t>Material y méto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íodo; 10 años. En Españ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uscadores científicos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dline, Cochrane, Instituto Joanna Briggs (JBI), Cuiden, Biblioteca Virtual de Salud (BVS), scie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rtículo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leccionados: 9 artícu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os de actuación de sociedades nacionales de acreditación en transfusión: CAT y S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ción vigen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1576"/>
              </a:spcBef>
              <a:spcAft>
                <a:spcPts val="1576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tiva Europea: Directiva 2002/98/CE del Parlamento Europe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1576"/>
              </a:spcBef>
              <a:spcAft>
                <a:spcPts val="1576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Decreto 1088/2005: Requisitos técnicos de servicios de transfusión y don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1576"/>
              </a:spcBef>
              <a:spcAft>
                <a:spcPts val="1576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 Decreto 62/2003 de 17 de Enero, por el que se modifica el Real Decreto 1945/1985 de 9 de Octubre de 1985, por el que se regula la Hemodonación y los Bancos de Sang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1576"/>
              </a:spcBef>
              <a:spcAft>
                <a:spcPts val="1576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DEN SCO/322/2007 : Trazabilidad y notificación de Reacciones advers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spcAft>
                <a:spcPts val="1576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e Hemovigilancia año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inisterio de Sanidad y Política Social. Unidad de  Hemovigilancia. Área de Hemoterap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de Uso Óptimo de Componentes Sanguíneo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o de Sanidad, Política Social e igualdad. Informes, estudios e investigación  20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a importancia, a lo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idad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urante la transfu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3933720"/>
            <a:ext cx="3772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Arial Rounded MT Bold"/>
              </a:rPr>
              <a:t>Discusión y Resul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ciones adversas: muy estudiadas, muy controladas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lta de notific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vigilanci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omo enfermeras notificam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derivados como bien “no fabricabl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hemoderivados como bien preciado, no fabricable y de fuente insustituibl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31:07Z</dcterms:created>
  <dc:creator>INMA</dc:creator>
  <dc:description/>
  <dc:language>en-US</dc:language>
  <cp:lastModifiedBy>hel_026</cp:lastModifiedBy>
  <dcterms:modified xsi:type="dcterms:W3CDTF">2012-10-15T09:44:35Z</dcterms:modified>
  <cp:revision>6</cp:revision>
  <dc:subject/>
  <dc:title>Patricia Fernández Santos Palencia, Febrero 2012</dc:title>
</cp:coreProperties>
</file>